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095-C56C-4958-8910-4112A767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DFE-E3B7-4D74-964A-E48E6403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C7C-6719-4516-8919-3CF4A12F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890-28E6-40BF-A9F2-A20BD3F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5F1-DC80-433F-A1E3-1819E9B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BE8-6E6D-41E5-A3B5-1EE4573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401-43D3-4AE6-B9DE-BA964223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5A1-A0A1-4FA2-B670-DBE7F71B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B46-9291-40FD-A47E-748B13F8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CC1-D7E1-4CE8-BB80-4A0DA8A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F9D-1A51-4EC7-A358-D4364A4F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268-6A3A-45D5-B316-CC47752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25E-9CB3-4FD8-8BC3-311D264B3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9 Vzmuž sa, stádočko ty mal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muž sa, stádočko ty mal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priateľov nemaj str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muž sa, Pán je s tebou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roč s piesňou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zbrojí ťa svojou sil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sa spolie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sa jemu zaľúbi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tený ti vrátiť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dliehaj sveta zvo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iam, čo ponú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í len Jež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ho blaha záru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trpenia prídu mnoh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šak hlavu smelo vzpri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sa na obloh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ojej sláve zjaví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ji zostaň neochvej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zmi celú Božiu zb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– Kráľa chválospev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tať radostne sa str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trať nádej v žiadn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i keď si v tráp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Pán tých, čo preňho ž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ncom slávi odm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49:33Z</dcterms:modified>
  <cp:revision>21</cp:revision>
  <dc:subject/>
  <dc:title>Je veľký náš Pán, on slávy je Kráľ Nech do všetkých strán  spev vrúcnych znie chvál.</dc:title>
</cp:coreProperties>
</file>